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6DEC-E2BA-4BEB-8ADB-A59D4BBE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9454-6541-4A97-B96A-25F22483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4AC1-BCA9-44D0-BFD9-5F0E92E2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D4D9-AF7F-420F-B5B2-7206F424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C928-ED9D-4EA0-B251-AF9CFE6C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3AF4-7B0D-42E9-9A86-D158419C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A450-88D6-464E-B140-EEDAB131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86C3-E366-4611-AFA0-AB1A61EE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0555-E02A-4491-B61F-CDD06440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C430-5734-4290-915E-17175D2F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139C-36DA-4536-B069-F16DB918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1D26-4FDE-4030-9C0D-7360F9F1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7D77-9C69-4A69-B62D-AD95B1C7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F273-80A5-41B1-86ED-8C9FEA51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D96B-7F72-4C30-8287-E64C9C39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C014-4255-4D4D-9ADA-938EDB32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3D70-416A-4F73-8655-B3D44F40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6666-0E65-461C-B87D-01B65B6B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5015-2B14-4BFA-B488-F738A4F7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1086-888F-4E05-BCD0-27BABDCF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C6C5-BCB9-4F4F-9132-A0E276D0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1FB2-9CB7-4C8D-AFE3-08AECD13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574D-0DC1-4934-ACE9-0FBED295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A8DF-C31D-4FB2-A09C-6E84B347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7992-2BFA-4CFE-B2B5-9B8DEFCCD37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EA3F-C88D-4F51-9D5B-125ACC7EB99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ETS for Administrators 2002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047760"/>
            <a:ext cx="91440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ttp://www.iste.org/Content/NavigationMenu/NETS/ForAdministrators/2002Standards/NETS_for_Administrators_2002_Standards.ht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5638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esenter: Eric Poto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vember 5,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II. Productivity and Professional Practic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engage in professional learning activities using technology resourc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 are aware of emerging technolog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. use technology to advance organizational improvem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V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upport, Management, and Operatio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ducational leaders ensure the integration of technology to support productive systems for learning and administration. Educational leaders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V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upport, Management, and Operatio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implement guidelines to ensure compatibility of technolog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. use integrated tech-based management/operations system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. allocate financial/human resources for implementation of technology pla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V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upport, Management, and Operatio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integrate district plans (strategic, technology, curriculum) to align efforts/resourc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 implement procedures to maintain/update technolog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V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ssessment and Evalua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ducational leaders use technology to plan and implement comprehensive systems of effective assessment and evaluation. Educational leaders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V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ssessment and Evalua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. assess and evaluate appropriate uses of technolog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775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77560" indent="-2775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. use technology to analyze data, improve instruction/student learn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775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77560" indent="-2775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. assess staff knowledge, skills, and performance as basis for professional developm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775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77560" indent="-2775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. assess, evaluate, manage administrative/operational syste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VI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ocial, Legal, and Ethical Issu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ducational leaders understand the social, legal, and ethical issues related to technology and model responsible decision making related to these issues. Educational leaders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VI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ocial, Legal, and Ethical Issu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ensure equity of acces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. promote responsible use of technolog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. promote privacy, security, and online safet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VI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ocial, Legal, and Ethical Issu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promote environmentally safe and healthy practic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 develop policies that enforce copyright law/assign ownership of intellectual propert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urtesy: ISTE NETS for Administrator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ttp://www.iste.org/Content/NavigationMenu/NETS/ForAdministrators/2002Standards/NETS_for_Administrators_2002_Standards.ht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eadership and Vis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ducational leaders inspire a shared vision for comprehensive integration of technology and foster an environment and culture conducive to the realization of that vision. Educational leaders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eadership and Vis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A. facilitate/communicate a shared vision for technology use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B. develop, implement, and monitor a technology plan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. foster risk-taking and innovation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D. use data in decision-making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eadership and Vis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 advocate effective practices in technolog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. advocate for implementation of Everett’s technology pla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I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earning and Teach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ducational leaders ensure that curricular design, instructional strategies, and learning environments integrate appropriate technologies to maximize learning and teaching. Educational leader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669960" y="1397160"/>
            <a:ext cx="468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I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earning and Teach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A. identify, use, evaluate, and promote technologies to support instruction and student achievement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B. facilitate/support collaborative learning environments conducive to innovation for improved learning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. provide environments that use technology to meet the needs of learners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I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earning and Teach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use technology to support/enhance instructional methods that develop high-level thinking, decision-making, and problem solv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 provide professional learning opportunities for faculty and staff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II. Productivity and Professional Practic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ducational leaders apply technology to enhance their professional practice and to increase their own productivity and that of others. Educational leaders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II. Productivity and Professional Practic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model effective use of technolog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. employ technology for communica-tion throughout school communit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. create/participate in learning communities that support faculty/staff in using technolog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4:18:33Z</dcterms:created>
  <dc:creator>ehs user</dc:creator>
  <dc:description/>
  <dc:language>en-US</dc:language>
  <cp:lastModifiedBy>ehs user</cp:lastModifiedBy>
  <cp:lastPrinted>2008-10-24T15:32:40Z</cp:lastPrinted>
  <dcterms:modified xsi:type="dcterms:W3CDTF">2008-10-24T15:33:18Z</dcterms:modified>
  <cp:revision>51</cp:revision>
  <dc:subject/>
  <dc:title>PowerPoint Presentation</dc:title>
</cp:coreProperties>
</file>